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zapbig0g.wav" ContentType="audio/x-wav"/>
  <Override PartName="/ppt/media/caralarmoff.wav" ContentType="audio/x-wav"/>
  <Override PartName="/ppt/media/lzipup01.wav" ContentType="audio/x-wav"/>
  <Override PartName="/ppt/media/bserie0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550-81CF-4503-9A2C-621A018F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7A4-23EB-42AE-93AA-158845CA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118-18E0-4D80-AFB9-C7D8F86C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297-C294-4C0A-B2BF-D74EBBD7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443-51F2-4302-9A6D-B450D52B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ACB-41D1-476C-8344-8CC9A5EE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9D8-C9FA-4096-A28C-1626BCCE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371-CE7E-4C03-9981-8DD20FE4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DD3-9FAB-42E8-BB24-351D2D24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C7B-A6B4-4748-B450-F0C12643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1C3-5886-41B1-AC90-B53E209E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5BD-1379-43E2-B035-0F8E9B0A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737B-BF68-4917-B892-3E2A8A4A5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ing 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6844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When multiplying two integ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positive)(posi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(positive)=neg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(nega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59360"/>
            <a:ext cx="188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Multip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7840" y="4594320"/>
                <a:ext cx="23130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87360" y="5253120"/>
                <a:ext cx="1282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156120" y="4541760"/>
                <a:ext cx="27446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370400" y="5245200"/>
                <a:ext cx="733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564240" y="4519440"/>
                <a:ext cx="19224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7345440" y="5222880"/>
                <a:ext cx="779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Multiplying 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6844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When multiplying two integ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positive)(posi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(positive)=neg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(nega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059360"/>
            <a:ext cx="188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Multip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63600" y="4587840"/>
                <a:ext cx="23241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287360" y="5253120"/>
                <a:ext cx="1282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395520" y="4600440"/>
                <a:ext cx="215604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08640" y="5245200"/>
                <a:ext cx="458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014880" y="4565520"/>
                <a:ext cx="26370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505640" y="5222880"/>
                <a:ext cx="459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ividing 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6844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When dividing two integ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positive)/(posi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/(positive)=neg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/(nega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59360"/>
            <a:ext cx="188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Divid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42880" y="4697280"/>
                <a:ext cx="2394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÷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69880" y="5253120"/>
                <a:ext cx="91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309840" y="4670280"/>
                <a:ext cx="2748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÷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508640" y="5245200"/>
                <a:ext cx="457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423120" y="4687920"/>
                <a:ext cx="2430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254720" y="5222880"/>
                <a:ext cx="962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Dividing 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46844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When dividing two integer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positive)/(posi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/(positive)=neg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(negative)/(negative)=posi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059360"/>
            <a:ext cx="188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33"/>
                </a:solidFill>
                <a:latin typeface="Lucida Sans Unicode"/>
                <a:ea typeface="Lucida Sans Unicode"/>
              </a:rPr>
              <a:t>Divid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28760" y="4680000"/>
                <a:ext cx="2238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÷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469880" y="5253120"/>
                <a:ext cx="91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182760" y="4692600"/>
                <a:ext cx="28832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÷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86320" y="5245200"/>
                <a:ext cx="50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467400" y="4681440"/>
                <a:ext cx="2238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t xml:space="preserve">÷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505640" y="5222880"/>
                <a:ext cx="459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027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87, 11 – 6 #1-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89, 11 – 7 #1-1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10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5-08T18:55:17Z</dcterms:modified>
  <cp:revision>105</cp:revision>
  <dc:subject/>
  <dc:title>Slide 1</dc:title>
</cp:coreProperties>
</file>